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7DE-1C18-416F-97F2-657CBD89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D37-0488-4A8C-B787-9135B69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FCD-2399-4AAB-BB37-823E9EA1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06D-8774-4ECE-970B-000C607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370-6FE6-4964-9CD9-48D541E1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E04F-C089-4777-A59F-A2DD274C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BC2B-4CBA-428A-8990-7DD2846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C94-0439-4F4D-A86F-361F733F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27D-497C-4F3A-B541-3DF9599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672D-E66E-44A9-B850-9CD6586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044-DB96-4838-89C0-D31206C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249-4D67-457F-AFE9-C9C3F15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9209-39D2-4022-AA37-20D582A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329-5E9D-4A24-A330-890D640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57CF-3194-4556-911D-3267F31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BCF-20AF-41B5-ABB6-87B30ACF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7C1-D7FB-4932-B2B6-64FC2F51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6DD-659C-4DFE-B819-C1F16621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B35-E65E-4E71-81A9-C7A7C24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AF4-1E0C-43BD-AC4B-23ADB43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76F-2051-404E-A2B3-F026CE14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811-EEB4-47CC-A79B-D9FBF9C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25F-89A7-49C0-B528-AD5990F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7C5-ECB4-4138-A18C-0B1B080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118E-95AC-485B-9ED8-C72ABF2886A6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E3F-6E41-4A76-A610-450A248CF674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aeaea"/>
                </a:solidFill>
                <a:latin typeface="Tahoma"/>
              </a:rPr>
              <a:t>Heart Pa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95360" y="11080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uperior Vena Cava- is a large vein that collects deoxygenated blood from the upper regions of the body and returns it to the right atri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ight Atrium- chamber that accepts deoxygenated blood from the b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3/10. Atrioventricular valves- prevents blood from flowing back into the atria from the ventr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icuspid- on right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cuspid- on left side (mitra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151920"/>
            <a:ext cx="7848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8006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4. Right ventricle- chamber that pumps blood to the lungs via the pulmonary arte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5. Inferior vena cava- a large vein collects deoxygenated blood from the lower parts of the body and deposits it into right atr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6. Pulmonary Semi lunar value – prevents blood from flowing back into the right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Ink 4" descr=""/>
          <p:cNvPicPr/>
          <p:nvPr/>
        </p:nvPicPr>
        <p:blipFill>
          <a:blip r:embed="rId1"/>
          <a:stretch/>
        </p:blipFill>
        <p:spPr>
          <a:xfrm>
            <a:off x="4606920" y="3154320"/>
            <a:ext cx="1697040" cy="90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0800"/>
            <a:ext cx="9144000" cy="68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8006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7. Septum- is muscle that separates heart into the left and right sides- prevents deoxygenated blood from mixing with oxygenated bl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8. Aortic Semi Lunar Valve – prevents backflow of blood into the left ventricle from the aor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9. Left ventricle- pumps oxygenated blood to entire bod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510516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0. See #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1. Left atrium- receives oxygenated blood from the lungs and pumps it into the left ventr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2. Rt/Lt pulmonary vein- carries oxygenated blood from lungs back to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3. Rt/Lt pulmonary arteries- carries deoxygenated blood from the heart to the lu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14.Aorta-  main artery carrying oxygenated blood to the body- originates at left ventri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* The coronary arteries are on the outside of the heart. They supply the heart with the oxygen and nutrients needed to make it pu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48:00Z</dcterms:created>
  <dc:creator>nbdoe</dc:creator>
  <dc:description/>
  <dc:language>en-US</dc:language>
  <cp:lastModifiedBy>Ward, Jeffrey    (ASD-W)</cp:lastModifiedBy>
  <dcterms:modified xsi:type="dcterms:W3CDTF">2018-04-17T17:00:16Z</dcterms:modified>
  <cp:revision>15</cp:revision>
  <dc:subject/>
  <dc:title>Heart Parts</dc:title>
</cp:coreProperties>
</file>